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21CE-F4FC-4D7D-BBDE-A9C3D3D2E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723A-E4B9-46DB-832B-8B7DD402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06CD-9B31-4406-B604-55CF15F80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FBD6-2579-4B4C-B8F7-2896F7702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887D-E46B-48F8-AE06-C0B7838E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20B4-CC79-4876-B537-F6E9D7AD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AC6D-99DD-44A4-B7A4-F375EB1C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05A8-A7D1-4D14-A3C0-CCF30A21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B687-230C-4C65-8628-2F815893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4C7A-6C6B-41B9-9D69-EB5EA4EC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8E73-A8B8-4116-A46B-A5DE2DAB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AC78-FE14-4873-98F1-9C2A1D9E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AD5B-E0F8-4C83-B808-8451C9153CD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51280" y="1052280"/>
            <a:ext cx="4572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Rectangle 169"/>
          <p:cNvSpPr/>
          <p:nvPr/>
        </p:nvSpPr>
        <p:spPr>
          <a:xfrm>
            <a:off x="4932360" y="1844640"/>
            <a:ext cx="34574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10:06:32Z</dcterms:modified>
  <cp:revision>877</cp:revision>
  <dc:subject/>
  <dc:title>Diapositiva 1</dc:title>
</cp:coreProperties>
</file>